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A86A-A864-4BCB-BCB4-00C0D172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5C51-23DB-4297-B040-7B2E1E5E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109F-67E2-40F6-A73C-454635F3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2E19-EBDB-4413-A16A-C088A25C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BEA9-F7EE-496D-AB66-7253668C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C176-EF14-486A-9F62-B7C66CD6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F9E2-C3C1-4B48-A6D2-A1AA4131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FDE7-3DE1-45F2-9AF7-3583FFF5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808F-4ACF-4E68-8862-89E62FE3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4C97-BBA9-4EE7-A916-31C54285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28E1-2BD0-4FAD-B09F-80861B92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0857-D959-46AC-9D0F-8E78EAD9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8E5F-3BF6-46FD-AAA2-FA91E2F5A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Large Sample Test for IDR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in Person-Time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Cohort Stud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620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2971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6201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7086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7162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7315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315200" cy="137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732816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2388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238880" cy="1276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14400" y="2673360"/>
            <a:ext cx="723888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01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848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059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77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739152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38080" y="5029200"/>
            <a:ext cx="739152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15200" cy="2946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133720" y="4038480"/>
            <a:ext cx="4267080" cy="1447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400800" y="434340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990720" y="43434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4190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47920" y="4267080"/>
            <a:ext cx="548640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62120" y="472428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781680" y="4724280"/>
            <a:ext cx="167652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762120" y="4419720"/>
            <a:ext cx="761760" cy="457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762120" y="5638680"/>
            <a:ext cx="7696080" cy="762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62520" y="4038480"/>
            <a:ext cx="28191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4T02:00:42Z</dcterms:modified>
  <cp:revision>41</cp:revision>
  <dc:subject/>
  <dc:title>PowerPoint Presentation</dc:title>
</cp:coreProperties>
</file>